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8D9-A07C-4508-924B-7B76B7A0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1B6-40BB-4395-8755-65C7E655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B6E-A77A-4FC2-92AC-09B5208E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4C0-D7D7-4D4F-BD5D-7123960C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772-4404-47C2-B411-EBA5590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225-A933-4F21-84DA-3983340C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B20-2C99-48E3-B078-E9ED71AD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0F7-E9CC-4779-8FAD-F475E0F9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169-37BF-46BD-A128-B0055A88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2FE-F377-4169-9D26-8D362693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490-4AC1-43B5-8FA7-4C1180C6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4A2-F2FD-452A-97FD-8DD16AF2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EBDF-C65B-4D1E-A47E-C9FD1EC83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IAC: Advanced Composites Employmen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25000"/>
            </a:blip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7621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ane State Community College, East Tennes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57200" y="4038480"/>
            <a:ext cx="2666880" cy="33732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grated Delive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457200" y="3200400"/>
            <a:ext cx="25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Promote the technology-transf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low-cost carbon fiber from the research stage to drive private industry production and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457200" y="1371600"/>
            <a:ext cx="2666880" cy="3373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mposite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457200" y="4419720"/>
            <a:ext cx="2631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SBA:  Provide counseling, training,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assistance to small businesses to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 obtaining financ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EDA:  Connect area materials industry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companies to technology, skilled labor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and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DOL:  Develop/provide skills training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composites related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5"/>
          <p:cNvSpPr/>
          <p:nvPr/>
        </p:nvSpPr>
        <p:spPr>
          <a:xfrm>
            <a:off x="3200400" y="1371600"/>
            <a:ext cx="0" cy="487692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3352680" y="1371600"/>
            <a:ext cx="5410440" cy="3373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ision and 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3276720" y="1752480"/>
            <a:ext cx="546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Implement an intense cluster network strategy to promote the availability and potential of technology acceleration to drive composites industry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3332160" y="2266920"/>
            <a:ext cx="2514600" cy="3373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oals &amp; 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3276720" y="2590920"/>
            <a:ext cx="2514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rain over 90 students for mid-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obs – 25 trained to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pport at least 16 companies in the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echnology transfer effort – 2 served to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ate, 11 in development process and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ore in initial stages.  Providing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raining  for existing industry expa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vide small business training and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unseling services – over 20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usinesses 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6010200" y="2265480"/>
            <a:ext cx="2718000" cy="3373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hall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5938920" y="2606760"/>
            <a:ext cx="2671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stimating the timing of research and technology transfer that drives job development  to be able to provide “just-in-time” tr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7"/>
          <p:cNvSpPr/>
          <p:nvPr/>
        </p:nvSpPr>
        <p:spPr>
          <a:xfrm>
            <a:off x="3352680" y="6400800"/>
            <a:ext cx="5486400" cy="2462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act: Andy Pokelwaldt  (865) 354-3000 x4923  pokelwaldtag@roanestate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8"/>
          <p:cNvSpPr/>
          <p:nvPr/>
        </p:nvSpPr>
        <p:spPr>
          <a:xfrm>
            <a:off x="3276720" y="4876920"/>
            <a:ext cx="3504960" cy="3373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9"/>
          <p:cNvSpPr/>
          <p:nvPr/>
        </p:nvSpPr>
        <p:spPr>
          <a:xfrm>
            <a:off x="3311640" y="5183280"/>
            <a:ext cx="3504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. of Tennessee Center for Industri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xville-Oak Ridge Innovation Vall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 Tennessee Economic Counci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t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k Ridge National Labor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0" descr="DSC_9002.JPG"/>
          <p:cNvPicPr/>
          <p:nvPr/>
        </p:nvPicPr>
        <p:blipFill>
          <a:blip r:embed="rId2"/>
          <a:stretch/>
        </p:blipFill>
        <p:spPr>
          <a:xfrm>
            <a:off x="6880320" y="4830840"/>
            <a:ext cx="1903320" cy="1265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609480" y="2583000"/>
            <a:ext cx="2438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685800" y="2583000"/>
            <a:ext cx="213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ACE Acc Cluster Establishments 3.jpg"/>
          <p:cNvPicPr/>
          <p:nvPr/>
        </p:nvPicPr>
        <p:blipFill>
          <a:blip r:embed="rId3"/>
          <a:stretch/>
        </p:blipFill>
        <p:spPr>
          <a:xfrm>
            <a:off x="457200" y="1752480"/>
            <a:ext cx="2649600" cy="149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www.roanestate.edu/webfolders/STILESSL1/logo.jpg"/>
          <p:cNvPicPr/>
          <p:nvPr/>
        </p:nvPicPr>
        <p:blipFill>
          <a:blip r:embed="rId4"/>
          <a:stretch/>
        </p:blipFill>
        <p:spPr>
          <a:xfrm>
            <a:off x="7467480" y="457200"/>
            <a:ext cx="1278000" cy="6094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3"/>
          <p:cNvSpPr/>
          <p:nvPr/>
        </p:nvSpPr>
        <p:spPr>
          <a:xfrm>
            <a:off x="6019920" y="3429000"/>
            <a:ext cx="2639880" cy="3373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stain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5952960" y="3733920"/>
            <a:ext cx="2657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rtnerships have been developed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he infrastructure has been built for future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mall business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raining is available to support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15:50:21Z</dcterms:created>
  <dc:creator>driskillo</dc:creator>
  <dc:description/>
  <dc:language>en-US</dc:language>
  <cp:lastModifiedBy>ruth</cp:lastModifiedBy>
  <cp:lastPrinted>2014-06-03T15:29:42Z</cp:lastPrinted>
  <dcterms:modified xsi:type="dcterms:W3CDTF">2014-06-03T15:30:52Z</dcterms:modified>
  <cp:revision>50</cp:revision>
  <dc:subject/>
  <dc:title>Slide 1</dc:title>
</cp:coreProperties>
</file>